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54F-DFCF-4EE8-9430-BA3939B9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2E16-1DDE-4D40-A25F-CF90F6BF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592-E746-4205-B1E1-00D4CA98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337-1CB8-4507-97F7-18659D91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BA14-A9D6-40B8-A714-02026934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7AD-7389-4794-B61B-B4675C5A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33C-1F3A-4B87-A825-3762C426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6C7-C25A-4690-A9B9-B3A83214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CB5F-E912-4300-B424-7C154CD1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4A5-A22D-433A-9306-71EE052E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D97-0D43-47C2-8CFF-DFD1910F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8401-FDF8-42B9-AB1F-18DDAFDE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6C2A-0940-4425-AE06-B3BBEDA22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60199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y: Tristin Padge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57200" y="1600200"/>
          <a:ext cx="4267080" cy="5116680"/>
        </p:xfrm>
        <a:graphic>
          <a:graphicData uri="http://schemas.openxmlformats.org/drawingml/2006/table">
            <a:tbl>
              <a:tblPr/>
              <a:tblGrid>
                <a:gridCol w="1071720"/>
                <a:gridCol w="1011240"/>
                <a:gridCol w="1009440"/>
                <a:gridCol w="1174680"/>
              </a:tblGrid>
              <a:tr h="43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Ge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Georg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4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rs.Bu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5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rs.Riff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7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ar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1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ar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elb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0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Kyl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2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Ken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ris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yl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0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ary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la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amry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lys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ubr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Ki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lizabe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Ram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Ryl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10552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970200"/>
                <a:gridCol w="970920"/>
                <a:gridCol w="970560"/>
                <a:gridCol w="1126440"/>
              </a:tblGrid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Kyl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l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bb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il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0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K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n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di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Kels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Ril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Kyl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e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cke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Jud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3812400" y="3808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irls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ld you are the better your memory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ossible Applica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help you remember stuff so if you grow up to be a business person you remember every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ossible Causes of Err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ctually trying to remember the pict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’t 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Further Resear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if boys are better than girls at mem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ime Sp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ior High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Bibliograph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kipedia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doctors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ionary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big thanks to Mrs. Riff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the people I tes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of the teachers that let me have part of thei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194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057400" y="0"/>
            <a:ext cx="264636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724280" y="0"/>
            <a:ext cx="2494080" cy="187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0" y="1905120"/>
            <a:ext cx="2884320" cy="2239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2895480" y="190512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5181480" y="19051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0" y="4267080"/>
            <a:ext cx="3103560" cy="2327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3200400" y="41911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6259680" y="4343400"/>
            <a:ext cx="288432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1440" cy="1755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362320" y="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724280" y="0"/>
            <a:ext cx="2494080" cy="1870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259680" y="1981080"/>
            <a:ext cx="2884320" cy="2163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0" y="1752480"/>
            <a:ext cx="3179880" cy="238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3200400" y="1905120"/>
            <a:ext cx="2951280" cy="2212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2133720" y="41338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ffect does age have on memo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eason why I picked this is because everybody always says they can remember stuff really well. I wanted to see if that is actually true. So I’m testing everybody I c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t most younger people are better at memo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mory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ental faculty of retaining and recalling past experienc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predict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t older are better at remembering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tures of th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r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es and fe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 w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Look for in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Get pictures off of the inter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Put the pictures on a poster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First test Junior High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 Then test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 Then test grade-school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 Finally test the people at the ma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See what age was the best for mem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 Finally upload to bear cub sci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ajor Observa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the best at read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ys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09480" y="393840"/>
          <a:ext cx="8229600" cy="6464160"/>
        </p:xfrm>
        <a:graphic>
          <a:graphicData uri="http://schemas.openxmlformats.org/drawingml/2006/table">
            <a:tbl>
              <a:tblPr/>
              <a:tblGrid>
                <a:gridCol w="2200320"/>
                <a:gridCol w="1906560"/>
                <a:gridCol w="1908000"/>
                <a:gridCol w="2214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Ge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r. Lambe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1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ry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0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lay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te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ray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rad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ry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aleb L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ev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Luk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Juni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R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uc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d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aled F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Garre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Joh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al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ac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ol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Keg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Wya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ed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5:01:51Z</dcterms:created>
  <dc:creator>USD376</dc:creator>
  <dc:description/>
  <dc:language>en-US</dc:language>
  <cp:lastModifiedBy>USD376</cp:lastModifiedBy>
  <dcterms:modified xsi:type="dcterms:W3CDTF">2011-03-29T19:52:57Z</dcterms:modified>
  <cp:revision>8</cp:revision>
  <dc:subject/>
  <dc:title>Memory</dc:title>
</cp:coreProperties>
</file>